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52C-8366-4A07-9889-958E7F16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6B6-9477-40CF-AFE5-6913AA7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B8C5A-0496-4753-9438-6C2B426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28310-10E6-42B1-AC91-E5B7969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F90D7-F569-47E2-9CBE-149C3E2C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E2FEA-5C5C-4CEA-B0B1-5A29E49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94F92-8FD3-4DE7-B8D7-B32BD87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AD404-8AB1-4517-88CF-6382457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D4A63-5097-47C0-8744-E6DA8AE0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C866-62BC-47CB-9377-DB5D81C5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7B76C-E96D-4226-A57B-C18BE36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719C9-4C91-46EA-912A-4AC4B88E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979-536D-4C7A-88A8-17D14AAF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088EF-A90B-456E-AF6B-39227E4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295C5-1194-4FC0-9A04-231FEF4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FEF06B-D006-4A14-8CD4-1ED304E6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564717-6833-4F97-832E-9F9367F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B1189-D990-4F34-9192-3D30A69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8A5A6-9F14-48D3-A5A4-583655D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798BE5-7CF7-46B7-BB6C-52267C4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8E43F-5485-41BF-9748-912439F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9FC394-CE46-448F-B691-1AB1353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3D0BB-1F24-44FE-BD58-99E26F80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DAF-EDAA-4B48-80A0-9E311D6F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1611CE-8F0C-4257-94C3-03B9844E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59B8-0C6C-4553-BCD3-F79452D7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6F03E-5D51-4456-B24F-81C6CBB6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F7E6-437F-4C97-B22A-A232CF05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DE96-A057-4701-8572-0818D417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89CB-7D29-494A-A637-05B65EA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D22B-7DB0-458A-8474-2EFA340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95EE7-5E08-4208-9DC2-4338A13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41F9-D0C4-45F4-BE07-2F5C27F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DA83A-FE1A-49A7-9BCE-D0C14DC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2F4-C3D7-446B-908D-8B793163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A13F8-5F5B-4AA2-A31D-DB655E6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B4A71-231A-41F7-946A-CA8DAC7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66334-8EC7-4084-A2EA-478978E2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144-86D5-4B26-A4F0-06B0912D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60F-7020-4B44-8FF2-FC29289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56C-3131-4E9D-9411-9DDB26A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493-C04A-4CDE-B9C5-E516D0F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456-DA9F-4C25-9F8C-87CC95F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BC4-6512-49BD-B881-A550A31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D49-BEAC-40B5-A318-9070939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AF51-E210-4E4D-B8F3-93970D5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F849-AC7D-46A5-A31E-0AF7FA6D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EB8F-95E2-4D92-94C9-B6A71D6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922-FB44-4923-BADD-956E8752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993-85EC-4CE7-AFE1-6ADEE54E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738E-6182-4194-A359-63A9750B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9290-A55B-49AC-816A-6E697C0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1558-CD12-4F93-87D6-5236191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6880-6DD5-43B7-8D6D-64A72E0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ADDD-2450-4D75-8177-FEB4395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994-5EAF-4227-8167-C903B84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DF1A-54E2-45C7-9B7A-0D3730F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B967-F919-4A33-A3E4-61C7E22F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52BA-B084-4FB1-B554-3720E22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0494-460D-48FE-B19D-4903A15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4844-6E82-474F-B112-4745519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C56A-C1A6-4EC7-83DA-81C3EF12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4654-329E-467E-A5CF-C434D6A7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2F903-5367-4FDF-8FBA-42312127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7A60C-35A6-406A-A193-8D270DC9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5266C-D22D-43C2-AA58-78381E0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3A6-3E68-443F-9C64-1C04A266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D037D-ABF5-4223-A69F-92966720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EA45A-1043-4BB9-BD63-41826EEF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6DF63-8790-4200-90DC-CADC70B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F9589-B6C5-4711-B25F-5CF75E3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B7E46-D73A-43B8-B6A8-EE48FC9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151C2-111C-45FD-AAE8-147398A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F0DDD-092E-4BCF-84AD-0CF086D1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FAFAC-B42B-4963-995A-AB14A7D1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CAA78-5176-4D5C-82DE-D4594030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D42B-1B20-4BC8-99C5-A00186C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DA4-4387-4D86-870D-FD2A79C6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C109-9D58-46CA-9B25-E0AD705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86454-FCC8-4D65-A8B5-43D9293B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FA3B-2E92-4764-BE19-67D31B8E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27F3-9F45-44EA-AE63-999863D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DC47-5686-40AB-9E65-118E29C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6401-017D-4034-9F47-0EF190C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8D6A-869F-4F0F-9F8C-6C4A1BE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2309-C89B-42C0-89A7-903D162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A41C-DDF0-4D1F-BFC7-95990FE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82B4-54B8-4E2E-9780-B946E8D8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07F-710D-4B4B-A141-E4F3885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FE88-50C8-481B-B570-03FA75F5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576E-A85D-4812-B152-ED76B2CB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99B2-8ABB-4B1F-89C3-05C7DBB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F21E-E891-4F26-885F-98412C0D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BF0F-0DE5-4A20-A76D-F6680FA4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69548-E3CE-436A-BF3D-484C0BC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B29C-9A9A-4AF1-8F81-0CF68E4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CA088-05E3-453F-A536-9A524CF2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7275-A82F-4E89-BF6F-2AEBEF07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E83A-2010-423F-B3D2-2359190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476-8683-4786-A114-BFEF457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6A8A-0EAB-4ED3-9AC4-7BBA8854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178A-1315-4D7F-8086-0444684D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7097-84E4-49BE-A760-E007369A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5ED2-E23E-4E11-8292-50F8F4C0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F000-DA57-40C5-A4C1-CAB5C165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087E-FD5A-4741-817A-072ABD3E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D6E5F-DF57-44D5-A44D-73C9A30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5B84-7CB6-4B0D-85EC-B5FCD71C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C70A9-CA43-437D-BD38-5126B3F3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26C0-A699-4B8B-91FB-28050E4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669-2EB9-4DC3-9598-9EC7417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BD4D-E262-4EC1-BB2B-CDA0710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DC88F-4364-43E6-A15C-7130C72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36BE-A785-470C-8364-83D6DAD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2A4F-EC50-41C4-A186-C65C0F8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60F1-4819-433C-BA19-15BEDCB9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5296-9C7C-40A8-BB56-90831CD2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B8BD0-020B-4817-9F23-A51F6118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433C-B564-4F9E-8FCB-D6ABFA9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5DC0-A00B-4E2D-BDCD-A1AEAD5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2CD41-911F-44A0-83A0-D3B2E11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148-B31D-4EB2-B15D-1E45E38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03D6-23E1-43AE-B6A1-3812533F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8623-4A08-49D3-9C55-4B10126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7D48-6C5E-4EF0-87FC-49F5FE4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7E6A-D292-4B99-A9DF-A806992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6E0A0-0616-400E-9D0D-6A3004E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2BC4-4304-4A98-B10E-2F8DCE36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1050-C4EA-4FF0-BA3E-A652E6CD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9E9C8-A4AF-47A4-8024-87E19216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B453-4E78-4ADF-BB9B-A5045B4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1564-CD92-49EB-A5E8-B8A468F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E6E3-6D92-456F-8AB9-B72503E8E0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E6A-2075-41DD-90AE-88E34E667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F62-48CC-40F5-B42C-C28881BA6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DED-5AA0-42B8-B8CE-215677D8F0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3673-3C61-47FD-9428-66EB6DE43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B8B7-BD2E-4ECA-826A-5936A94AE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401-C1C3-4A59-9D04-8A9405F8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A52-986A-4872-88E2-47CB2B1AFD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75D-E421-42DE-840F-EA6E3DD4E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316-4FB7-47AF-BE61-6B9E29A99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A67-9BCB-4182-83B0-F823FE8A1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2057400" y="1219320"/>
            <a:ext cx="6172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l Canal del Uruguay 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124080" y="365760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iempo Diaro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43200" y="47242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aron Le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981080" y="1828800"/>
            <a:ext cx="46008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y en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6783480" y="166212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22082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2819520" y="1981080"/>
            <a:ext cx="556236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1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Uruguay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685800" y="3513240"/>
            <a:ext cx="5029200" cy="33447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1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571500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3°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762120" cy="757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209680" y="6019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3°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1295280" y="5638680"/>
            <a:ext cx="932040" cy="9320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67652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2°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092240" cy="10922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352680" y="5943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9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4114800" y="53341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3657600" y="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838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73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nostico de siete d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85800" y="2286000"/>
          <a:ext cx="8305920" cy="3146400"/>
        </p:xfrm>
        <a:graphic>
          <a:graphicData uri="http://schemas.openxmlformats.org/drawingml/2006/table">
            <a:tbl>
              <a:tblPr/>
              <a:tblGrid>
                <a:gridCol w="1187280"/>
                <a:gridCol w="1186200"/>
                <a:gridCol w="1187280"/>
                <a:gridCol w="1184400"/>
                <a:gridCol w="1187280"/>
                <a:gridCol w="1185840"/>
                <a:gridCol w="11876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rc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e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er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la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 nub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 s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 nub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1981080" y="274320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3124080" y="2590920"/>
            <a:ext cx="990720" cy="9842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5"/>
          <a:stretch/>
        </p:blipFill>
        <p:spPr>
          <a:xfrm>
            <a:off x="5562720" y="2819520"/>
            <a:ext cx="914400" cy="9093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4343400" y="26668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6705720" y="2819520"/>
            <a:ext cx="914400" cy="9093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7848720" y="266688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1981080" y="2286000"/>
            <a:ext cx="5029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39:12Z</dcterms:created>
  <dc:creator>alewy11</dc:creator>
  <dc:description/>
  <dc:language>en-US</dc:language>
  <cp:lastModifiedBy>Readington Township Board of Education</cp:lastModifiedBy>
  <dcterms:modified xsi:type="dcterms:W3CDTF">2009-05-12T16:23:32Z</dcterms:modified>
  <cp:revision>8</cp:revision>
  <dc:subject/>
  <dc:title>Slide 1</dc:title>
</cp:coreProperties>
</file>